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6636-D89A-4D7C-86D4-EA4FC142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7AA2-02A6-4770-ADF7-F3A8AFEE3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AF03-7D36-46F8-B917-A024168C6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AB9C-C101-4A8D-907F-7A0668AAF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CF8-3E6C-44B4-A5B7-E4932A5A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607-A83C-4747-8546-D7779AE54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9D20-A1C1-4B4F-903D-0E8FE2C8D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97DF-7E27-4382-B07F-5FCFA61D6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8DB-38D3-44BC-8F4E-ED89B5A45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8EA8-75D5-4A49-A75F-F5C502FB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440-AA23-46F0-9BD1-41463EE5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2E7-9CD0-4D7B-B73B-621FD569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33DC-CD73-41A9-B7DE-DA52A1C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301-9D25-4C7B-8187-0C7FBE9C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78F-73EC-4511-99CC-79CA767E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C97-58F4-4241-B3E3-A65DC87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592-2647-4238-99B4-C3158068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464-D922-47BE-B145-E7596653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064-FF3A-45E9-BE18-8561C997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D58-C8EB-4F4B-84E9-3114382B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BC8-708E-49CE-93DF-21AC174C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FA69-680D-4922-A75B-03F9C2C8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  <p:cxnSp>
        <p:nvCxnSpPr>
          <p:cNvPr id="73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Straight Arrow Connector 6"/>
          <p:cNvCxnSpPr/>
          <p:nvPr/>
        </p:nvCxnSpPr>
        <p:spPr>
          <a:xfrm flipH="1" flipV="1">
            <a:off x="4952160" y="6400080"/>
            <a:ext cx="839160" cy="229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5791320" y="64882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rface Run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" name="Picture 6" descr="Picture 2.png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31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981080" y="3809880"/>
          <a:ext cx="5105520" cy="148608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14400" y="5375160"/>
          <a:ext cx="7238880" cy="1486080"/>
        </p:xfrm>
        <a:graphic>
          <a:graphicData uri="http://schemas.openxmlformats.org/drawingml/2006/table">
            <a:tbl>
              <a:tblPr/>
              <a:tblGrid>
                <a:gridCol w="1809720"/>
                <a:gridCol w="5429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halkboard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ture 2.png"/>
          <p:cNvPicPr/>
          <p:nvPr/>
        </p:nvPicPr>
        <p:blipFill>
          <a:blip r:embed="rId1"/>
          <a:stretch/>
        </p:blipFill>
        <p:spPr>
          <a:xfrm>
            <a:off x="1523880" y="2209680"/>
            <a:ext cx="6045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15:46:14Z</dcterms:created>
  <dc:creator>Julie Libarkin</dc:creator>
  <dc:description/>
  <dc:language>en-US</dc:language>
  <cp:lastModifiedBy>Nicole LaDue</cp:lastModifiedBy>
  <dcterms:modified xsi:type="dcterms:W3CDTF">2010-12-20T17:13:00Z</dcterms:modified>
  <cp:revision>301</cp:revision>
  <dc:subject/>
  <dc:title>PowerPoint Presentation</dc:title>
</cp:coreProperties>
</file>